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687-B068-4B1D-AB1C-075120B6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978-04B7-425F-AF61-8F160BA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68B-F56D-41C3-893E-FB86B485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EE7-5A2A-4F13-AD1E-5EDB6502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7AD-688B-43CB-A3F3-36665DC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06B-4659-46A2-AD81-D3C16F2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AC2-724A-4D3F-8919-317FB77A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0A4-C05B-4EC7-B447-02C916A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C25-84B8-42EC-B3FA-8FF1B72A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5DA-578F-436D-869D-8749C95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D12-7D1E-4905-8D39-321A9665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49C-BFBC-46D9-AFCF-92C0226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F52-293B-4C98-B8BB-CE9C8267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9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84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its size doesn’t matter to the variability of the statistic (the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3352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n a newspaper article, it states that they took a poll of Americans and found that 65% of them think the President is doing a good job.  They say that they are 95% confident about their results, but they have a margin of error of plus or minus3%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he’s doing a good job?  Do you trust their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8600" y="380880"/>
            <a:ext cx="8686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 article the next day saying that they were wrong, that they have a margin of error of 30%, not 3%.  They are still 95% confident in their results though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28600" y="38088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other article.  They took a new sample because their realized their margin of error was too high before.  So now they have a margin of error of 5%.  But they are only 60% confident in their results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3808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Want it to be a low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1778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ts always a plus or minus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28600" y="24638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ually paired with a level of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22596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the level of confidence and the margin of error to decide whether you trust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4:33Z</dcterms:created>
  <dc:creator>Lauren Senske</dc:creator>
  <dc:description/>
  <dc:language>en-US</dc:language>
  <cp:lastModifiedBy>Lauren Senske</cp:lastModifiedBy>
  <dcterms:modified xsi:type="dcterms:W3CDTF">2009-09-16T16:54:08Z</dcterms:modified>
  <cp:revision>9</cp:revision>
  <dc:subject/>
  <dc:title>Slide 1</dc:title>
</cp:coreProperties>
</file>